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13B-AAA0-4C39-9425-8D31FFDE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BCE-A4D4-43C0-B6C7-CEFFE54E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071-C745-40A5-BC2A-63AD0150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6E0-345E-4249-9208-2CEB154C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C08C-817A-4F5B-B0B3-D624A650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5B74-F730-49C5-84C7-454D198B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CCAA-E82C-4F2A-98FE-8E474C59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E766-5FD0-48A5-9285-BDCA4E40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40D4-F405-4377-83BA-F7D6A5D4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2AC9-AF45-42D8-A913-806108AE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451A-90BF-4C2E-BE2E-B5547BA1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08B-D301-44E7-937A-11C08452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B041-EE0B-40ED-A8A0-CDD6F82B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D499-F03D-4C7B-94BB-1C7BF60F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23AD-1FF0-4D64-896E-85A44877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EE64-B90F-441D-BD53-51B5F582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3D5A-F4CD-482B-9613-55AD64C6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960-EEC9-4A1F-BCBF-4A05DEEE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FB5-CBB0-4172-917B-9D569657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DEE-998E-47FC-AD7E-B599FF6C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001E-7D3C-4308-AF93-720CD6F7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BB7-8FFD-46D2-B070-02D8D137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D0A-7A26-4CB0-9BAA-2E86714A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485-0A38-4A7B-B0D3-08987C35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5E75-209D-4E80-B433-87FA22DE4B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DAF2-1A17-436E-B112-0174477D4F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Katie Hernandez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heim City School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k Henry 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Grade Curriculum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external image khernandez.png"/>
          <p:cNvPicPr/>
          <p:nvPr/>
        </p:nvPicPr>
        <p:blipFill>
          <a:blip r:embed="rId1"/>
          <a:stretch/>
        </p:blipFill>
        <p:spPr>
          <a:xfrm>
            <a:off x="1447920" y="1905120"/>
            <a:ext cx="761760" cy="64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ology Knowled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fortable learning new 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emely comfortable with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use Excel for sorting data and making ch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fortable with PPT (need to learn more about effective slides – Presentation Z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echnology da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ology Goa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e teachers to Wikispaces in order to encourage and facilitate collab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e teachers to Social Bookmarking in order to encourage and facilitate collab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new ways to use Exc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hievement of Goa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day grade-level collaboration meetings are coming up in District offers classes through their TIS November so that will be the perfect time to introduce both Wikispaces and Social Bookma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heim City School department so I can take an advanced Excel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6:17:56Z</dcterms:created>
  <dc:creator>kmhernandez</dc:creator>
  <dc:description/>
  <dc:language>en-US</dc:language>
  <cp:lastModifiedBy>kmhernandez</cp:lastModifiedBy>
  <dcterms:modified xsi:type="dcterms:W3CDTF">2006-10-26T18:02:51Z</dcterms:modified>
  <cp:revision>8</cp:revision>
  <dc:subject/>
  <dc:title>Slide 1</dc:title>
</cp:coreProperties>
</file>